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320"/>
            <a:ext cx="32749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4BE64-F090-4F2D-980F-1C69D7FA16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 PL ShanHeiSun Uni"/>
              </a:rPr>
              <a:t>Note – more relations defined and used in test ontology – not shown 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I’m going to quickly take you through the running example I’m going to u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is a stage 8 Drosophila embry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Check Fabian’s formal version to make vernacular form to deal with ‘or after’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28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e VNC primordium has GMC 7-1b as a part from stage 9 to stage 13, but not before or af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U2 neurons are part of the VNC primordium from stage 12, AND part of the VNC from stage 17 through larval stag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dd or discuss – relation to has_part def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Add or discuss: Relation to part_of de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Neuroblasts delaminate from the VNE, and then bud off daughter cells called ganglion mother cel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Once delaminated, Neuroblasts become part of a growing tissue called the Ventral nerve cord primordium.  Ganglion mother cells stay close to the NB the bud fr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just shows the same thing a bit later.  More NBs, many more GMC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is just to show, that the timing of delamination is predictable for each type of neuroblast.  Different NBs delaminated at different tim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43000" indent="-243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This shows developmental lineage of the U2 neur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-2430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arenR"/>
              <a:tabLst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during stage 8, neuroblast NB7-1 delaminates from the VNE and becomes part of the VNC primor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(ii) During stage 9, GMC 7-1b buds from NB 7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(iii) Towards the end of stage 12, GMC7-1b divides and one of the progeny starts to differentiate into a U2 neur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43000"/>
                <a:tab algn="l" pos="690480"/>
                <a:tab algn="l" pos="1139760"/>
                <a:tab algn="l" pos="1589040"/>
                <a:tab algn="l" pos="2038320"/>
                <a:tab algn="l" pos="2487600"/>
                <a:tab algn="l" pos="2936880"/>
                <a:tab algn="l" pos="3386160"/>
                <a:tab algn="l" pos="3835440"/>
                <a:tab algn="l" pos="4284720"/>
                <a:tab algn="l" pos="4734000"/>
                <a:tab algn="l" pos="5183280"/>
                <a:tab algn="l" pos="5632560"/>
                <a:tab algn="l" pos="6081840"/>
                <a:tab algn="l" pos="6531120"/>
                <a:tab algn="l" pos="6980400"/>
                <a:tab algn="l" pos="7429680"/>
                <a:tab algn="l" pos="7878600"/>
                <a:tab algn="l" pos="8327880"/>
                <a:tab algn="l" pos="8777160"/>
                <a:tab algn="l" pos="92264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1251000" y="801720"/>
            <a:ext cx="505944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755280" y="507996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We need a staging system to record when GMC 7-1b exists… - various types of staging system have been built by different MODS.  We’ve tried to standardise and formalise on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 PL ShanHeiSun Uni"/>
              </a:rPr>
              <a:t>Part relations shown cannot be recorded (I’ll show you why later).  So, from the ontology, our curator can’t tell what GMC 7-1b is part of. And, in grouping gene expression, we can’t deduce that a gene expressed in GMC 7-1b is expressed in part of the VNC primordiu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5800" y="4361040"/>
            <a:ext cx="54864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1. We treat developmental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 PL ShanHeiSun Uni"/>
              </a:rPr>
              <a:t>Emphasise - This applies to development of a whole animal, of some part of that animal or to processes that are repeated many times during development – e.g.- ommatidial development, or in an adult – e.g.- oogene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2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12760"/>
                <a:tab algn="l" pos="660240"/>
                <a:tab algn="l" pos="1109520"/>
                <a:tab algn="l" pos="1558800"/>
                <a:tab algn="l" pos="2008080"/>
                <a:tab algn="l" pos="2457360"/>
                <a:tab algn="l" pos="2906640"/>
                <a:tab algn="l" pos="3355920"/>
                <a:tab algn="l" pos="3805200"/>
                <a:tab algn="l" pos="4254480"/>
                <a:tab algn="l" pos="4703760"/>
                <a:tab algn="l" pos="5153040"/>
                <a:tab algn="l" pos="5602320"/>
                <a:tab algn="l" pos="6051600"/>
                <a:tab algn="l" pos="6500880"/>
                <a:tab algn="l" pos="6950160"/>
                <a:tab algn="l" pos="7399440"/>
                <a:tab algn="l" pos="7848720"/>
                <a:tab algn="l" pos="8298000"/>
                <a:tab algn="l" pos="8747280"/>
                <a:tab algn="l" pos="91965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6634-671B-4ACB-9904-534B4E3FA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5B1-E50F-4884-9290-43D45318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9BC-FAFF-44CF-9C5D-F24DA4A1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5A76-CFEA-456B-82F3-B7185A4F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A4A-7DE4-48F7-81B6-83BF39EE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6120-42AB-4533-BF34-9B564130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A0A9-3839-4DF7-8204-943C001B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FDE-C8B4-40E3-86D6-538EADF0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0A8-8441-4A0C-990B-915FE1FF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7D72-F2E7-467C-A0FA-7C73D14B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3780-2887-4D2F-9589-6B5EE78B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C9F4-A9DE-4AC9-AEC8-5C6505E8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7B142-CBC0-4565-9215-40D156DA15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549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Representing Develo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2997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vid Osumi-Sutherland –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y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bian Neuhaus -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tional Institute of Standards and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ystem for ordering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2920" y="1763640"/>
            <a:ext cx="9072360" cy="57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ents are treated as instants – they  have no time dime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only 2 types of timing relationships between event instances (e, 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&lt;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imultaneo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≈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oth can be derived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fore_or_simultaneous_ with 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: e&lt;f := e≤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NOT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: e≈f := e≤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≤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344680" y="4032360"/>
            <a:ext cx="3968640" cy="357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57240" y="3476520"/>
            <a:ext cx="3968640" cy="357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44680" y="4151160"/>
            <a:ext cx="1800" cy="55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924440" y="3486240"/>
            <a:ext cx="14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58800" y="4711680"/>
            <a:ext cx="150192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x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527800" y="4651200"/>
            <a:ext cx="157140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x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13320" y="4295880"/>
            <a:ext cx="18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68400" y="3484440"/>
            <a:ext cx="1440" cy="10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546200" y="2000160"/>
            <a:ext cx="12304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81400" y="4630680"/>
            <a:ext cx="1463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p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72040" y="5002200"/>
            <a:ext cx="1425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q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240" y="441360"/>
            <a:ext cx="999972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iming relations between instances of occurrents, continu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38560" y="1946160"/>
            <a:ext cx="50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v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α(p)  - beginning of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ω(p) - end of an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xiom: α(o)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ω(o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3680" y="3303720"/>
            <a:ext cx="1057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8280" y="29034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000" y="5748480"/>
            <a:ext cx="9072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tarts_during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p := (α(p)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α(x)) AND (α(x)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ω(p)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3476520"/>
            <a:ext cx="2513160" cy="357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jaVu Sans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2360" y="4552920"/>
            <a:ext cx="14256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α(p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634080" y="4707000"/>
            <a:ext cx="157176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1" marL="735120" indent="-277920">
              <a:lnSpc>
                <a:spcPct val="88000"/>
              </a:lnSpc>
              <a:spcBef>
                <a:spcPts val="601"/>
              </a:spcBef>
              <a:tabLst>
                <a:tab algn="l" pos="0"/>
                <a:tab algn="l" pos="735120"/>
                <a:tab algn="l" pos="1182600"/>
                <a:tab algn="l" pos="1631880"/>
                <a:tab algn="l" pos="2081160"/>
                <a:tab algn="l" pos="2530440"/>
                <a:tab algn="l" pos="2979720"/>
                <a:tab algn="l" pos="3429000"/>
                <a:tab algn="l" pos="3878280"/>
                <a:tab algn="l" pos="4327560"/>
                <a:tab algn="l" pos="4776840"/>
                <a:tab algn="l" pos="5226120"/>
                <a:tab algn="l" pos="5675400"/>
                <a:tab algn="l" pos="6124680"/>
                <a:tab algn="l" pos="6573960"/>
                <a:tab algn="l" pos="7023240"/>
                <a:tab algn="l" pos="7472520"/>
                <a:tab algn="l" pos="7921800"/>
                <a:tab algn="l" pos="8370720"/>
                <a:tab algn="l" pos="8820000"/>
                <a:tab algn="l" pos="9269280"/>
                <a:tab algn="l" pos="971856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ω(q)</a:t>
            </a:r>
            <a:r>
              <a:rPr b="0" lang="en-GB" sz="2400" spc="-1" strike="noStrike">
                <a:solidFill>
                  <a:srgbClr val="000000"/>
                </a:solidFill>
                <a:latin typeface="DejaVu Sans"/>
                <a:ea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31120" y="3498840"/>
            <a:ext cx="14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e Pro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invariability of the order of two events is always relative to some reference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before Y during o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instances of oogenesis occur in parallel in an adult female, but with no shared starting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, relative to the life of an adult female, X and Y have no invariant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280" y="3603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rosophila Ooge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60360" y="1979640"/>
            <a:ext cx="3959280" cy="50403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877080" y="723960"/>
            <a:ext cx="1927080" cy="65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rnary relations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erence processes could be recorded using ternary relations (A before B during C...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t these are not supported in OWL or OBO, or by their respective editing tools – Protege and OBO-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31640" y="93240"/>
            <a:ext cx="907128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to avoid using ternary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000" y="1440000"/>
            <a:ext cx="9070920" cy="59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type for which timing is to be captured – record a reference occur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 :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Continuant or Occurrent types have only one referenc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occurrents occur only once during their referenc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a is an occurrant, then 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f_occurrant(a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f Aa is a continuant, then a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rticipates_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(ref_occurrant(a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430200"/>
            <a:ext cx="9070920" cy="67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-&gt;  (Universal(x) &amp; is_a(y,Occurrent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 referenceoccurrent(x, z) -&gt;  (y =z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is_a(x,Occurrent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x1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x, x1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y, 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ilo_part(x1,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all y1 (I(y,y1) &amp; ilo_part(x1, y1) -&gt; (y1 = refoccurrent(x1)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ferenceoccurrent(x, y) &amp; is_a(x,Continuant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x1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x, x1) 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I(y, 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participates_in(x1,refoccurrent(x1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amp; all y1 (I(y,y1) &amp; participates_in(x1, y1) -&gt; (y1 = refoccurrent(x1))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44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2920" y="30744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vision of reference process into a reference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544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5452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4684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3736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90520" y="228132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71440" y="2055960"/>
            <a:ext cx="74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974600" y="187164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378160" y="228132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90520" y="2894040"/>
            <a:ext cx="93348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ellular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z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29440" y="2843280"/>
            <a:ext cx="273384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omodeal invag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76360" y="2908440"/>
            <a:ext cx="273384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str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3564000"/>
            <a:ext cx="3995640" cy="3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rm band 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18520" y="3435480"/>
            <a:ext cx="1546200" cy="4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P invagin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7280" y="2317680"/>
            <a:ext cx="776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520" y="2843280"/>
            <a:ext cx="10047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Uni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4319640"/>
            <a:ext cx="7920000" cy="22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strulation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mbryogen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bryonic stage 5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reference_occurren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embryogen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astrulation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begins_at_end_o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 embryonic stage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modeal invagination begins_at_end_of embryonic stage 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14440" y="2352600"/>
            <a:ext cx="6555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begins_at_end_of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– formal d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 begins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_at_end_of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↔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O is_a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 P</a:t>
            </a:r>
            <a:r>
              <a:rPr b="1" lang="en-GB" sz="3200" spc="-1" strike="noStrike" baseline="-42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s_a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∀o (O(o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→  ∃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 (P(p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 refoccurrent(o) = refoccurrent(p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amp;(omega(p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≈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lpha(o)))))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st of type level relation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que*</a:t>
            </a:r>
            <a:r>
              <a:rPr b="0" lang="en-GB" sz="3200" spc="-1" strike="noStrike" baseline="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current to unique Occur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at_end_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d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nds_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imultaneous_with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happens_during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baseline="33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 Unique here means, happens only once during referenc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2 non-essential but reduces number of relationship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287720" y="83808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210360" y="694044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40000" y="985680"/>
            <a:ext cx="5219640" cy="5673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3419640"/>
            <a:ext cx="344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E = Ventral 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656160" y="46767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4488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3720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26280" y="46767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418600" y="46767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55480" y="1531800"/>
            <a:ext cx="912816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rts to exist during*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s of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S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s of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MC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tart to exist during* </a:t>
            </a:r>
            <a:r>
              <a:rPr b="1" lang="en-GB" sz="2000" spc="-1" strike="noStrike">
                <a:solidFill>
                  <a:srgbClr val="aecf00"/>
                </a:solidFill>
                <a:latin typeface="Arial"/>
              </a:rPr>
              <a:t>ES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R start to exist after the end of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stance of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*during is shorthand for 'the start of X is after the start of Y and before the end of Y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14840" y="5343480"/>
            <a:ext cx="1085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5329080"/>
            <a:ext cx="47005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083120" y="592452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890960" y="536688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080" y="5545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999972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iming relations between typ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049560" y="4545000"/>
            <a:ext cx="1057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30560" y="41497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6560" y="-36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s_a inheritance of ti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56160" y="43275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4488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3720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26280" y="432756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418600" y="432756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844880" y="5041800"/>
            <a:ext cx="476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6160" y="5041800"/>
            <a:ext cx="11919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925880" y="535788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86440" y="5357880"/>
            <a:ext cx="2432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469280" y="591192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054320" y="5911920"/>
            <a:ext cx="13496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4960" y="6227640"/>
            <a:ext cx="19065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848120" y="535284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48720" y="585324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8023320" y="5033880"/>
            <a:ext cx="7920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60360" y="1501920"/>
            <a:ext cx="912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cease_to_exist_during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12 (ES12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50840" y="546084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412120" y="535788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876240"/>
                <a:tab algn="l" pos="1325520"/>
                <a:tab algn="l" pos="1774800"/>
                <a:tab algn="l" pos="2224080"/>
                <a:tab algn="l" pos="2673360"/>
                <a:tab algn="l" pos="3122640"/>
                <a:tab algn="l" pos="3571920"/>
                <a:tab algn="l" pos="4021200"/>
                <a:tab algn="l" pos="4470480"/>
                <a:tab algn="l" pos="4919760"/>
                <a:tab algn="l" pos="5369040"/>
                <a:tab algn="l" pos="5818320"/>
                <a:tab algn="l" pos="6267600"/>
                <a:tab algn="l" pos="6716880"/>
                <a:tab algn="l" pos="7165800"/>
                <a:tab algn="l" pos="7615080"/>
                <a:tab algn="l" pos="8064360"/>
                <a:tab algn="l" pos="8513640"/>
                <a:tab algn="l" pos="8962920"/>
                <a:tab algn="l" pos="9412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– formal defi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l_begin_to_exist_during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C is_a Continu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is_a  Occur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24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∀ c ∀ t  ( C (c,t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 ∃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(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occurrent(c) = refoccurrent(o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pha(o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pha(c)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alpha(c)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≤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mega(o)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)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4920" y="9324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st of type level timing relation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88720" y="1292040"/>
            <a:ext cx="9070920" cy="644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ique*</a:t>
            </a:r>
            <a:r>
              <a:rPr b="0" lang="en-GB" sz="3200" spc="-1" strike="noStrike" baseline="33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occurrent to non-unique continu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ast_exists_d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_begin_to_exist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l_cease_to_exist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to_exist_at_end_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gins_to_exist_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ceases_to_exist_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ists_only_during *</a:t>
            </a:r>
            <a:r>
              <a:rPr b="0" i="1" lang="en-GB" sz="2800" spc="-1" strike="noStrike" baseline="33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400" spc="-1" strike="noStrike" baseline="33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1 Unique here means, happens only once during referenc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*2 non-essential but reduced number of relationship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48768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67676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9080" y="3067200"/>
            <a:ext cx="119196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05960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250120" y="306720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676760" y="378144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87680" y="378144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57760" y="409896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91320" y="4098960"/>
            <a:ext cx="24746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300800" y="4651200"/>
            <a:ext cx="13496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34000" y="61596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4651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915080" y="5519520"/>
            <a:ext cx="644400" cy="56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10360" y="4967280"/>
            <a:ext cx="1915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681440" y="409392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80240" y="459432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80000" y="3940200"/>
            <a:ext cx="476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489480" y="3940200"/>
            <a:ext cx="11919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6667560" y="5358960"/>
            <a:ext cx="55404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854840" y="3774960"/>
            <a:ext cx="7956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6189840" y="3933720"/>
            <a:ext cx="79344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76120" y="2006640"/>
            <a:ext cx="912816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31120" y="4098960"/>
            <a:ext cx="1030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54640" y="571968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7099560" y="560880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87520" y="428760"/>
            <a:ext cx="90723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’t record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 has_part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08000" y="2130480"/>
            <a:ext cx="804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has_pa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Y, no matter what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04800" y="4834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416480" y="6118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847760" y="5313240"/>
            <a:ext cx="1908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75360" y="6566040"/>
            <a:ext cx="895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1120" y="6188040"/>
            <a:ext cx="13478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08560" y="5281560"/>
            <a:ext cx="24876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02160" y="69390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601720" y="3557520"/>
            <a:ext cx="7124760" cy="1800"/>
            <a:chOff x="2601720" y="3557520"/>
            <a:chExt cx="7124760" cy="1800"/>
          </a:xfrm>
        </p:grpSpPr>
        <p:sp>
          <p:nvSpPr>
            <p:cNvPr id="294" name=""/>
            <p:cNvSpPr/>
            <p:nvPr/>
          </p:nvSpPr>
          <p:spPr>
            <a:xfrm flipH="1">
              <a:off x="2601720" y="3557520"/>
              <a:ext cx="5702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292960" y="3557520"/>
              <a:ext cx="14335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8543880" y="3898800"/>
            <a:ext cx="1192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97280" y="3745080"/>
            <a:ext cx="592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35200" y="37450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5081760" y="3746160"/>
            <a:ext cx="116172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8259840" y="3900600"/>
            <a:ext cx="839880" cy="22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577960" y="285588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418000" y="3578040"/>
            <a:ext cx="167976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122720" y="5398920"/>
            <a:ext cx="7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86560" y="5315040"/>
            <a:ext cx="7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GB" sz="2000" spc="-1" strike="noStrike">
                <a:solidFill>
                  <a:srgbClr val="cc00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0"/>
            <a:ext cx="907272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We can’t record 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0720" y="1177920"/>
            <a:ext cx="849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X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2 neur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art_of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VNC pri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for all stages that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U2 neur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2920" y="0"/>
            <a:ext cx="9072360" cy="27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lution to the part problem:</a:t>
            </a:r>
            <a:br>
              <a:rPr sz="4000"/>
            </a:b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time_restricted_integral_part_of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tri_part_of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15880" y="25700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any time point where some instance of X and 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stance of Y ex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s of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 of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55680"/>
                <a:tab algn="l" pos="804960"/>
                <a:tab algn="l" pos="1254240"/>
                <a:tab algn="l" pos="1703520"/>
                <a:tab algn="l" pos="2152800"/>
                <a:tab algn="l" pos="2602080"/>
                <a:tab algn="l" pos="3051000"/>
                <a:tab algn="l" pos="3500280"/>
                <a:tab algn="l" pos="3949560"/>
                <a:tab algn="l" pos="4398840"/>
                <a:tab algn="l" pos="4848120"/>
                <a:tab algn="l" pos="5297400"/>
                <a:tab algn="l" pos="5746680"/>
                <a:tab algn="l" pos="6195960"/>
                <a:tab algn="l" pos="6645240"/>
                <a:tab algn="l" pos="7094520"/>
                <a:tab algn="l" pos="7543800"/>
                <a:tab algn="l" pos="7993080"/>
                <a:tab algn="l" pos="8442360"/>
                <a:tab algn="l" pos="88916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 of X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t_of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ances of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</a:rPr>
              <a:t>time_restricted_integral_part_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31640" y="1547640"/>
            <a:ext cx="9071280" cy="572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is_a Continu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 is_a  Continu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 (C (c, 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( d,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t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))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 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has_par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 is_a Continuan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is_a  Continu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 ∀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 (C (c, 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∃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( d,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∀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t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(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d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ists_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→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d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art_of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₂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)))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39000"/>
              </a:lnSpc>
              <a:spcAft>
                <a:spcPts val="1426"/>
              </a:spcAft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 tr_integral_part_o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GB" sz="1800" spc="-1" strike="noStrike">
                <a:solidFill>
                  <a:srgbClr val="000000"/>
                </a:solidFill>
                <a:latin typeface="Apple Chancery"/>
              </a:rPr>
              <a:t>↔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(C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part_of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 &amp; D 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tr_has_part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 )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005360" y="35434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19588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577280" y="35434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769240" y="35434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195880" y="425772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05360" y="4257720"/>
            <a:ext cx="119196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275440" y="4573440"/>
            <a:ext cx="10299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6308640" y="4554000"/>
            <a:ext cx="2489400" cy="2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818480" y="51274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53120" y="6635880"/>
            <a:ext cx="1347840" cy="7156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03880" y="51274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94320" y="5942160"/>
            <a:ext cx="63504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834160" y="5443560"/>
            <a:ext cx="1906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199120" y="4568400"/>
            <a:ext cx="16653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397920" y="50688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86160" y="61293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4880" y="5923080"/>
            <a:ext cx="2262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G – graph-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mitting tim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197320" y="4416480"/>
            <a:ext cx="476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06800" y="44164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7181640" y="5842080"/>
            <a:ext cx="563400" cy="71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583400" y="600084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04960" y="512748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129120" y="5448240"/>
            <a:ext cx="12016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897280" y="47322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6389640" y="4429080"/>
            <a:ext cx="2417760" cy="1461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194440" y="4255920"/>
            <a:ext cx="4881600" cy="1587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8373960" y="4251240"/>
            <a:ext cx="79560" cy="88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707160" y="4410000"/>
            <a:ext cx="79380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199120" y="4414680"/>
            <a:ext cx="119052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6120" y="520560"/>
            <a:ext cx="9128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first_exists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8 (ES8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 (VNC prim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cease_to_exist_during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 embryonic stage 9 (ES9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 (VNC prim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850240" y="4573440"/>
            <a:ext cx="1030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771040" y="4400640"/>
            <a:ext cx="118908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416480" y="611820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47760" y="5313240"/>
            <a:ext cx="1908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3280" y="244440"/>
            <a:ext cx="9128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motor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ventral nerve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ll_begin_to_exist_during 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embryonic stage 13 (ES13)</a:t>
            </a:r>
            <a:r>
              <a:rPr b="1" lang="en-GB" sz="2000" spc="-1" strike="noStrike">
                <a:solidFill>
                  <a:srgbClr val="99cc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81040" y="444168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2903040" y="4762440"/>
            <a:ext cx="1202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74800" y="40449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075360" y="6566040"/>
            <a:ext cx="8953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161120" y="6188040"/>
            <a:ext cx="134784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08560" y="5281560"/>
            <a:ext cx="2487600" cy="79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858000" y="53848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436920" y="535608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333399"/>
                </a:solidFill>
                <a:latin typeface="Arial"/>
              </a:rPr>
              <a:t>tdi_part_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402160" y="693900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601720" y="3557520"/>
            <a:ext cx="7124760" cy="1800"/>
            <a:chOff x="2601720" y="3557520"/>
            <a:chExt cx="7124760" cy="1800"/>
          </a:xfrm>
        </p:grpSpPr>
        <p:sp>
          <p:nvSpPr>
            <p:cNvPr id="365" name=""/>
            <p:cNvSpPr/>
            <p:nvPr/>
          </p:nvSpPr>
          <p:spPr>
            <a:xfrm flipH="1">
              <a:off x="2601720" y="3557520"/>
              <a:ext cx="5702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8292960" y="3557520"/>
              <a:ext cx="143352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8543880" y="3898800"/>
            <a:ext cx="11923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797280" y="3745080"/>
            <a:ext cx="5924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35200" y="3745080"/>
            <a:ext cx="11923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081760" y="3746160"/>
            <a:ext cx="1161720" cy="65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8259840" y="3900600"/>
            <a:ext cx="839880" cy="224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4680" y="3556080"/>
            <a:ext cx="4782960" cy="172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77960" y="2855880"/>
            <a:ext cx="1192320" cy="476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418000" y="3578040"/>
            <a:ext cx="1679760" cy="257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566200" y="3730680"/>
            <a:ext cx="1189080" cy="158760"/>
          </a:xfrm>
          <a:prstGeom prst="rect">
            <a:avLst/>
          </a:prstGeom>
          <a:solidFill>
            <a:srgbClr val="333399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510000" y="2144880"/>
            <a:ext cx="3409920" cy="4079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209520"/>
            <a:ext cx="9072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Neuroblast delamination from the ventral neurectode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440400" y="4746240"/>
            <a:ext cx="681120" cy="2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134480" y="4551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313320" y="3951360"/>
            <a:ext cx="68112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986520" y="3703680"/>
            <a:ext cx="245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anglion mother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24520" y="2959200"/>
            <a:ext cx="433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728960" y="3440160"/>
            <a:ext cx="82692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9360" y="4862520"/>
            <a:ext cx="480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570360" y="5614920"/>
            <a:ext cx="617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400" y="5384880"/>
            <a:ext cx="175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70320" y="1943280"/>
            <a:ext cx="27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38000" y="2476440"/>
            <a:ext cx="179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urectod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VNE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6080" y="6632640"/>
            <a:ext cx="48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gure from Doe, 1992, Development:1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59080" y="61272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780000" y="3780000"/>
            <a:ext cx="2857320" cy="32889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21280" y="5921280"/>
            <a:ext cx="1003320" cy="598680"/>
          </a:xfrm>
          <a:custGeom>
            <a:avLst/>
            <a:gdLst/>
            <a:ahLst/>
            <a:rect l="l" t="t" r="r" b="b"/>
            <a:pathLst>
              <a:path w="573" h="342">
                <a:moveTo>
                  <a:pt x="0" y="0"/>
                </a:moveTo>
                <a:lnTo>
                  <a:pt x="141" y="42"/>
                </a:lnTo>
                <a:lnTo>
                  <a:pt x="339" y="144"/>
                </a:lnTo>
                <a:lnTo>
                  <a:pt x="393" y="141"/>
                </a:lnTo>
                <a:lnTo>
                  <a:pt x="444" y="168"/>
                </a:lnTo>
                <a:lnTo>
                  <a:pt x="573" y="213"/>
                </a:lnTo>
                <a:lnTo>
                  <a:pt x="501" y="342"/>
                </a:lnTo>
                <a:lnTo>
                  <a:pt x="318" y="282"/>
                </a:lnTo>
                <a:lnTo>
                  <a:pt x="141" y="189"/>
                </a:lnTo>
                <a:lnTo>
                  <a:pt x="69" y="159"/>
                </a:lnTo>
                <a:lnTo>
                  <a:pt x="30" y="78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854440" y="5217840"/>
            <a:ext cx="1280880" cy="82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19520" y="449424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ner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59640" y="5843520"/>
            <a:ext cx="181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ganglion mother cell)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3440" y="689436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57560" y="539640"/>
            <a:ext cx="5481360" cy="2700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V="1">
            <a:off x="2757600" y="2892240"/>
            <a:ext cx="1665000" cy="170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003680" y="7254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59280" y="3830760"/>
            <a:ext cx="3174840" cy="3225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67320" y="6037200"/>
            <a:ext cx="850680" cy="566640"/>
          </a:xfrm>
          <a:custGeom>
            <a:avLst/>
            <a:gdLst/>
            <a:ahLst/>
            <a:rect l="l" t="t" r="r" b="b"/>
            <a:pathLst>
              <a:path w="486" h="324">
                <a:moveTo>
                  <a:pt x="0" y="0"/>
                </a:moveTo>
                <a:cubicBezTo>
                  <a:pt x="2" y="42"/>
                  <a:pt x="6" y="168"/>
                  <a:pt x="6" y="126"/>
                </a:cubicBezTo>
                <a:lnTo>
                  <a:pt x="210" y="270"/>
                </a:lnTo>
                <a:lnTo>
                  <a:pt x="438" y="324"/>
                </a:lnTo>
                <a:lnTo>
                  <a:pt x="486" y="144"/>
                </a:lnTo>
                <a:lnTo>
                  <a:pt x="384" y="96"/>
                </a:lnTo>
                <a:lnTo>
                  <a:pt x="246" y="90"/>
                </a:lnTo>
                <a:lnTo>
                  <a:pt x="126" y="60"/>
                </a:ln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506760" y="6252840"/>
            <a:ext cx="106056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41760" y="6103800"/>
            <a:ext cx="20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ntral ner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d primor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27840" y="7186680"/>
            <a:ext cx="36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pos-Ortega and Hartenstein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30320" y="590400"/>
            <a:ext cx="635004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85960" y="1720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e stage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8720" y="165888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g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200" y="4479840"/>
            <a:ext cx="7783560" cy="46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40880" y="446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rly ES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62960" y="168912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te stage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2720" y="34128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euroblast delamination from VNE to VNC primordi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4120" y="5203800"/>
            <a:ext cx="882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circle is a specific neuroblast (NB)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ours denote gene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61800" y="2260440"/>
            <a:ext cx="2705400" cy="2611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489480" y="2224080"/>
            <a:ext cx="2512800" cy="26240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512040" y="2205000"/>
            <a:ext cx="2390760" cy="2695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576520" y="3332160"/>
            <a:ext cx="7412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51440" y="3303720"/>
            <a:ext cx="7416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16080" y="6632640"/>
            <a:ext cx="486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gure from Doe, 1992, Development:1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velopment of U2 neu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59236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2 neu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262080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852960" y="2913120"/>
            <a:ext cx="711000" cy="144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4782960" y="2940120"/>
            <a:ext cx="611280" cy="144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284720" y="4781160"/>
            <a:ext cx="144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88160" y="16081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3480" y="260676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20480" y="2968560"/>
            <a:ext cx="91908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68240" y="264960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81760" y="2016000"/>
            <a:ext cx="1440" cy="64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27440" y="2057400"/>
            <a:ext cx="1440" cy="64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44360" y="156672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2560" y="157968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51080" y="4398840"/>
            <a:ext cx="134928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56040" y="441324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3943080" y="4732200"/>
            <a:ext cx="61092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7560" y="540216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uring stage 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364520" y="2044800"/>
            <a:ext cx="144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8521560" y="5824440"/>
            <a:ext cx="611280" cy="1800"/>
          </a:xfrm>
          <a:prstGeom prst="line">
            <a:avLst/>
          </a:prstGeom>
          <a:ln w="255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19960" y="5599080"/>
            <a:ext cx="192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103560" y="3471840"/>
            <a:ext cx="541440" cy="75564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355560" y="3541680"/>
            <a:ext cx="2514600" cy="7002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649680" y="3443400"/>
            <a:ext cx="4643280" cy="82548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084360" y="3486240"/>
            <a:ext cx="2487960" cy="685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8478720" y="5514840"/>
            <a:ext cx="611280" cy="1800"/>
          </a:xfrm>
          <a:prstGeom prst="line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19760" y="52894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11280" y="6521400"/>
            <a:ext cx="660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ge specific part relations such as these cannot 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rded using standard OBO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6560" y="-360"/>
            <a:ext cx="907236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mitations of current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8144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7052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6284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53360" y="2857680"/>
            <a:ext cx="119232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545680" y="2857680"/>
            <a:ext cx="1191960" cy="475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45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27760" y="5950080"/>
            <a:ext cx="1349280" cy="71568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NC pr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179960" y="4441680"/>
            <a:ext cx="1349280" cy="71604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MC 7-1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3520" y="5315040"/>
            <a:ext cx="634680" cy="55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610240" y="4757760"/>
            <a:ext cx="1906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74000" y="4383000"/>
            <a:ext cx="6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00520" y="547200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957720" y="5154480"/>
            <a:ext cx="563400" cy="7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539892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03280" y="1406520"/>
            <a:ext cx="9128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GMC 7-1b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 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 NB7-1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neurobl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nglion mother cell (GMC)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81040" y="4441680"/>
            <a:ext cx="1349640" cy="716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B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903040" y="4762440"/>
            <a:ext cx="1202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74800" y="404496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s_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137200" y="4013280"/>
            <a:ext cx="419040" cy="2332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5880" y="356868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eded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 to connect anatomy to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7961400" y="4054320"/>
            <a:ext cx="218880" cy="1922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37000" y="3416400"/>
            <a:ext cx="4703760" cy="14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66040" y="3443400"/>
            <a:ext cx="1440" cy="1825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664320" y="3927600"/>
            <a:ext cx="420840" cy="18856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123640" y="5796000"/>
            <a:ext cx="2529000" cy="70020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70320" y="5608800"/>
            <a:ext cx="2954520" cy="303120"/>
          </a:xfrm>
          <a:prstGeom prst="line">
            <a:avLst/>
          </a:prstGeom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6200" y="6396120"/>
            <a:ext cx="43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cc0099"/>
                </a:solidFill>
                <a:latin typeface="Arial"/>
              </a:rPr>
              <a:t>Need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– system for capturing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ge specific part re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35440" y="2631960"/>
            <a:ext cx="74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38600" y="244800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03240" y="2868480"/>
            <a:ext cx="267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 = embryonic 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developmental ti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90400" y="1979640"/>
            <a:ext cx="8229600" cy="77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y developmental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process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.g.- development of a whole organism) many events happen in an invariant 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events can be used as markers of developmental progress or time. This is the basis of many standard stage se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marker events can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irth, death, or transformation an anatomical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eginning, end and key point in a development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DeweyB</dc:creator>
  <dc:description/>
  <dc:language>en-US</dc:language>
  <cp:lastModifiedBy>DeweyB</cp:lastModifiedBy>
  <cp:revision>0</cp:revision>
  <dc:subject/>
  <dc:title/>
</cp:coreProperties>
</file>